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51B0D-B552-413F-95AF-7E01D1CC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04C1-EB21-4D49-B942-294096619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1F4CD-9227-488D-8B5F-98DE71CA0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5262F-5C4E-4C48-9318-2187F7793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15D6B-F6E7-4F31-B694-882DA494D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2E651-8A3A-4BE2-B44C-2C1125FD7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FF0B8-7616-480F-9C18-8E1E682BD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98C52-6000-4472-B166-7B788AB7D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DB6E0-A4B7-4AE4-A8D7-6E5A329B9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689E8-183F-4821-AD86-4A7FB1A7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E7DE2-BC98-43B9-ABF5-B73D27094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19DE-5DBD-44B1-976F-BA262519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BD4FF-52DE-4923-BC6F-17E624BD6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9BE6A-E60F-4CC9-91CC-0316A1A6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EBD30-BBC9-4AD5-AB1E-E8672AA52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8C482-90F1-4A58-90BF-26BC37B8A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3A017-4982-4A88-BA4A-64CE5508C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BE354-6E25-4539-A413-A65C0F6A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B7C3-0897-42E1-B92C-F29CA072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6D935-24B0-49D9-8AF6-2BD8E1D14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C5CF-15DF-49E2-8B90-355B6FE2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3F28D-4DD3-4F14-A01A-7DC7C471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CA84-052F-49CB-B034-7EA745EF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AAB0-A5AC-429F-A943-6D2CC1381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C8F8-EE96-48D9-908E-181F89277E6D}"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7DA1-3B40-4E5C-A475-111979D3DADB}"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Coleco Game Programming</a:t>
            </a:r>
            <a:br>
              <a:rPr sz="4400"/>
            </a:br>
            <a:r>
              <a:rPr b="0" i="1" lang="en-CA" sz="4400" spc="-1" strike="noStrike">
                <a:solidFill>
                  <a:srgbClr val="ffcc66"/>
                </a:solidFill>
                <a:latin typeface="Times New Roman"/>
              </a:rPr>
              <a:t>by Daniel Bienvenu</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earn how to start a ColecoVision game project with this game sample in ANSI C langua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f a ball hits a paddle diagonally, its X and Y directions change.</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particular rebound case lets a player have a kind of control on the ball, but it also creates a problem. Can you guess? (see next page).</a:t>
            </a:r>
            <a:endParaRPr b="0" lang="en-US" sz="2800" spc="-1" strike="noStrike">
              <a:solidFill>
                <a:srgbClr val="ffffcc"/>
              </a:solidFill>
              <a:latin typeface="Times New Roman"/>
            </a:endParaRPr>
          </a:p>
        </p:txBody>
      </p:sp>
      <p:graphicFrame>
        <p:nvGraphicFramePr>
          <p:cNvPr id="120" name=""/>
          <p:cNvGraphicFramePr/>
          <p:nvPr/>
        </p:nvGraphicFramePr>
        <p:xfrm>
          <a:off x="685800" y="2209680"/>
          <a:ext cx="3809880" cy="3810240"/>
        </p:xfrm>
        <a:graphic>
          <a:graphicData uri="http://schemas.openxmlformats.org/presentationml/2006/ole">
            <p:oleObj r:id="rId1" spid="">
              <p:embed/>
              <p:pic>
                <p:nvPicPr>
                  <p:cNvPr id="121"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hiting the screen border, a ball may be automaticaly in a rebound situatio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special rebound effect may cause another automatic rebound situation on the screen border.</a:t>
            </a:r>
            <a:endParaRPr b="0" lang="en-US" sz="2800" spc="-1" strike="noStrike">
              <a:solidFill>
                <a:srgbClr val="ffffcc"/>
              </a:solidFill>
              <a:latin typeface="Times New Roman"/>
            </a:endParaRPr>
          </a:p>
        </p:txBody>
      </p:sp>
      <p:graphicFrame>
        <p:nvGraphicFramePr>
          <p:cNvPr id="124" name=""/>
          <p:cNvGraphicFramePr/>
          <p:nvPr/>
        </p:nvGraphicFramePr>
        <p:xfrm>
          <a:off x="685800" y="2209680"/>
          <a:ext cx="3809880" cy="3810240"/>
        </p:xfrm>
        <a:graphic>
          <a:graphicData uri="http://schemas.openxmlformats.org/presentationml/2006/ole">
            <p:oleObj r:id="rId1" spid="">
              <p:embed/>
              <p:pic>
                <p:nvPicPr>
                  <p:cNvPr id="12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last figure showed us a way to update the ball direction when hiting screen borders and/or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sure the ball direction is always good, we must do the direction modifications in a particular order, we must program our code in a logical way to avoid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2 - Building the projec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you will see how I code a project one part at a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teps for a sample project : SMASH</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raw graphics with ICVGM v3</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init_graph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bal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rebound effects and paddle movement limi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onus: Add sounds and bricks (if you c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Draw graphics with ICVGM v3</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mall lesson on how to use the graphic tool named ICVG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a:t>
            </a:r>
            <a:endParaRPr b="0" i="1" lang="en-US" sz="4400" spc="-1" strike="noStrike">
              <a:solidFill>
                <a:srgbClr val="ffcc66"/>
              </a:solidFill>
              <a:latin typeface="Times New Roman"/>
            </a:endParaRPr>
          </a:p>
        </p:txBody>
      </p:sp>
      <p:sp>
        <p:nvSpPr>
          <p:cNvPr id="13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set; empty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left, it represents the screen; filled with SPACE characters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right, it’s the character editor.</a:t>
            </a:r>
            <a:endParaRPr b="0" lang="en-US" sz="2800" spc="-1" strike="noStrike">
              <a:solidFill>
                <a:srgbClr val="ffffcc"/>
              </a:solidFill>
              <a:latin typeface="Times New Roman"/>
            </a:endParaRPr>
          </a:p>
        </p:txBody>
      </p:sp>
      <p:graphicFrame>
        <p:nvGraphicFramePr>
          <p:cNvPr id="136" name=""/>
          <p:cNvGraphicFramePr/>
          <p:nvPr/>
        </p:nvGraphicFramePr>
        <p:xfrm>
          <a:off x="685800" y="2481120"/>
          <a:ext cx="3809880" cy="3267360"/>
        </p:xfrm>
        <a:graphic>
          <a:graphicData uri="http://schemas.openxmlformats.org/presentationml/2006/ole">
            <p:oleObj r:id="rId1" spid="">
              <p:embed/>
              <p:pic>
                <p:nvPicPr>
                  <p:cNvPr id="137"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a closer look of the character editor.</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left, it’s the color palette.</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right, there are buttons to copy, paste, clear, mirror or flip a character pattern.</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information.</a:t>
            </a:r>
            <a:endParaRPr b="0" lang="en-US" sz="2800" spc="-1" strike="noStrike">
              <a:solidFill>
                <a:srgbClr val="ffffcc"/>
              </a:solidFill>
              <a:latin typeface="Times New Roman"/>
            </a:endParaRPr>
          </a:p>
        </p:txBody>
      </p:sp>
      <p:graphicFrame>
        <p:nvGraphicFramePr>
          <p:cNvPr id="140" name=""/>
          <p:cNvGraphicFramePr/>
          <p:nvPr/>
        </p:nvGraphicFramePr>
        <p:xfrm>
          <a:off x="685800" y="2619360"/>
          <a:ext cx="3809880" cy="2989440"/>
        </p:xfrm>
        <a:graphic>
          <a:graphicData uri="http://schemas.openxmlformats.org/presentationml/2006/ole">
            <p:oleObj r:id="rId1" spid="">
              <p:embed/>
              <p:pic>
                <p:nvPicPr>
                  <p:cNvPr id="14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two white rectangles set the colors for the whole character. Click on a rectangle then select a color in the palet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small blue and black squares are colors for each line.</a:t>
            </a:r>
            <a:endParaRPr b="0" lang="en-US" sz="2800" spc="-1" strike="noStrike">
              <a:solidFill>
                <a:srgbClr val="ffffcc"/>
              </a:solidFill>
              <a:latin typeface="Times New Roman"/>
            </a:endParaRPr>
          </a:p>
        </p:txBody>
      </p:sp>
      <p:graphicFrame>
        <p:nvGraphicFramePr>
          <p:cNvPr id="144" name=""/>
          <p:cNvGraphicFramePr/>
          <p:nvPr/>
        </p:nvGraphicFramePr>
        <p:xfrm>
          <a:off x="685800" y="2619360"/>
          <a:ext cx="3809880" cy="2989440"/>
        </p:xfrm>
        <a:graphic>
          <a:graphicData uri="http://schemas.openxmlformats.org/presentationml/2006/ole">
            <p:oleObj r:id="rId1" spid="">
              <p:embed/>
              <p:pic>
                <p:nvPicPr>
                  <p:cNvPr id="145"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4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First, I select a character in the charset by clicking inside the big black section at the bottom of the window.</a:t>
            </a: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charset is done column by column. First column is characters 0 to 7, then 8 to 15, etc.</a:t>
            </a:r>
            <a:endParaRPr b="0" lang="en-US" sz="2800" spc="-1" strike="noStrike">
              <a:solidFill>
                <a:srgbClr val="ffffcc"/>
              </a:solidFill>
              <a:latin typeface="Times New Roman"/>
            </a:endParaRPr>
          </a:p>
        </p:txBody>
      </p:sp>
      <p:graphicFrame>
        <p:nvGraphicFramePr>
          <p:cNvPr id="148" name=""/>
          <p:cNvGraphicFramePr/>
          <p:nvPr/>
        </p:nvGraphicFramePr>
        <p:xfrm>
          <a:off x="685800" y="3508200"/>
          <a:ext cx="3809880" cy="1211400"/>
        </p:xfrm>
        <a:graphic>
          <a:graphicData uri="http://schemas.openxmlformats.org/presentationml/2006/ole">
            <p:oleObj r:id="rId1" spid="">
              <p:embed/>
              <p:pic>
                <p:nvPicPr>
                  <p:cNvPr id="149" name="" descr=""/>
                  <p:cNvPicPr/>
                  <p:nvPr/>
                </p:nvPicPr>
                <p:blipFill>
                  <a:blip r:embed="rId2"/>
                  <a:stretch/>
                </p:blipFill>
                <p:spPr>
                  <a:xfrm>
                    <a:off x="685800" y="3508200"/>
                    <a:ext cx="3809880" cy="12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resentation will show you how I begin a ColecoVision project in C langu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project sample showed here is named “Smash” and explores only characters graphics and illusion of movement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ook at the presentation first, and if you still want to know more about this game project, look at the source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clicking in the charset, I look at the character editor section to check if I selected the character number I wan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the character number 1.</a:t>
            </a:r>
            <a:endParaRPr b="0" lang="en-US" sz="2800" spc="-1" strike="noStrike">
              <a:solidFill>
                <a:srgbClr val="ffffcc"/>
              </a:solidFill>
              <a:latin typeface="Times New Roman"/>
            </a:endParaRPr>
          </a:p>
        </p:txBody>
      </p:sp>
      <p:graphicFrame>
        <p:nvGraphicFramePr>
          <p:cNvPr id="152" name=""/>
          <p:cNvGraphicFramePr/>
          <p:nvPr/>
        </p:nvGraphicFramePr>
        <p:xfrm>
          <a:off x="685800" y="2619360"/>
          <a:ext cx="3809880" cy="2989440"/>
        </p:xfrm>
        <a:graphic>
          <a:graphicData uri="http://schemas.openxmlformats.org/presentationml/2006/ole">
            <p:oleObj r:id="rId1" spid="">
              <p:embed/>
              <p:pic>
                <p:nvPicPr>
                  <p:cNvPr id="153"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left and right mouse buttons, draw inside the character pattern editor.</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a ball; a round shape with a little square inside it as a light spot.</a:t>
            </a:r>
            <a:endParaRPr b="0" lang="en-US" sz="2800" spc="-1" strike="noStrike">
              <a:solidFill>
                <a:srgbClr val="ffffcc"/>
              </a:solidFill>
              <a:latin typeface="Times New Roman"/>
            </a:endParaRPr>
          </a:p>
        </p:txBody>
      </p:sp>
      <p:graphicFrame>
        <p:nvGraphicFramePr>
          <p:cNvPr id="156" name=""/>
          <p:cNvGraphicFramePr/>
          <p:nvPr/>
        </p:nvGraphicFramePr>
        <p:xfrm>
          <a:off x="685800" y="2619360"/>
          <a:ext cx="3809880" cy="2989440"/>
        </p:xfrm>
        <a:graphic>
          <a:graphicData uri="http://schemas.openxmlformats.org/presentationml/2006/ole">
            <p:oleObj r:id="rId1" spid="">
              <p:embed/>
              <p:pic>
                <p:nvPicPr>
                  <p:cNvPr id="157"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two rectangles and the 16 squares, I change the color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 light up the spot light with cyan. The grey color in the character pattern is the invisible color 0.</a:t>
            </a:r>
            <a:endParaRPr b="0" lang="en-US" sz="2800" spc="-1" strike="noStrike">
              <a:solidFill>
                <a:srgbClr val="ffffcc"/>
              </a:solidFill>
              <a:latin typeface="Times New Roman"/>
            </a:endParaRPr>
          </a:p>
        </p:txBody>
      </p:sp>
      <p:graphicFrame>
        <p:nvGraphicFramePr>
          <p:cNvPr id="160" name=""/>
          <p:cNvGraphicFramePr/>
          <p:nvPr/>
        </p:nvGraphicFramePr>
        <p:xfrm>
          <a:off x="685800" y="2619360"/>
          <a:ext cx="3809880" cy="2989440"/>
        </p:xfrm>
        <a:graphic>
          <a:graphicData uri="http://schemas.openxmlformats.org/presentationml/2006/ole">
            <p:oleObj r:id="rId1" spid="">
              <p:embed/>
              <p:pic>
                <p:nvPicPr>
                  <p:cNvPr id="16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Smash characters</a:t>
            </a:r>
            <a:endParaRPr b="0" i="1" lang="en-US" sz="4400" spc="-1" strike="noStrike">
              <a:solidFill>
                <a:srgbClr val="ffcc66"/>
              </a:solidFill>
              <a:latin typeface="Times New Roman"/>
            </a:endParaRPr>
          </a:p>
        </p:txBody>
      </p:sp>
      <p:sp>
        <p:nvSpPr>
          <p:cNvPr id="16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 edit each character one by one until I finish the charse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the Smash charse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1: ba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2,3,4 : paddl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6,7 : brick (not us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32 : space character</a:t>
            </a:r>
            <a:endParaRPr b="0" lang="en-US" sz="2400" spc="-1" strike="noStrike">
              <a:solidFill>
                <a:srgbClr val="ffffcc"/>
              </a:solidFill>
              <a:latin typeface="Times New Roman"/>
            </a:endParaRPr>
          </a:p>
        </p:txBody>
      </p:sp>
      <p:graphicFrame>
        <p:nvGraphicFramePr>
          <p:cNvPr id="164" name=""/>
          <p:cNvGraphicFramePr/>
          <p:nvPr/>
        </p:nvGraphicFramePr>
        <p:xfrm>
          <a:off x="2308320" y="2057400"/>
          <a:ext cx="565200" cy="4114800"/>
        </p:xfrm>
        <a:graphic>
          <a:graphicData uri="http://schemas.openxmlformats.org/presentationml/2006/ole">
            <p:oleObj r:id="rId1" spid="">
              <p:embed/>
              <p:pic>
                <p:nvPicPr>
                  <p:cNvPr id="165" name="" descr=""/>
                  <p:cNvPicPr/>
                  <p:nvPr/>
                </p:nvPicPr>
                <p:blipFill>
                  <a:blip r:embed="rId2"/>
                  <a:stretch/>
                </p:blipFill>
                <p:spPr>
                  <a:xfrm>
                    <a:off x="2308320" y="2057400"/>
                    <a:ext cx="56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Export data to C</a:t>
            </a:r>
            <a:endParaRPr b="0" i="1" lang="en-US" sz="4400" spc="-1" strike="noStrike">
              <a:solidFill>
                <a:srgbClr val="ffcc66"/>
              </a:solidFill>
              <a:latin typeface="Times New Roman"/>
            </a:endParaRPr>
          </a:p>
        </p:txBody>
      </p:sp>
      <p:sp>
        <p:nvSpPr>
          <p:cNvPr id="16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saving the charset, I select “Export to C” in the File menu, I check the “Using RLE compression…” checkbox, I write the file name “icvgm.c” and I click on the “Export” button to save.</a:t>
            </a:r>
            <a:endParaRPr b="0" lang="en-US" sz="2800" spc="-1" strike="noStrike">
              <a:solidFill>
                <a:srgbClr val="ffffcc"/>
              </a:solidFill>
              <a:latin typeface="Times New Roman"/>
            </a:endParaRPr>
          </a:p>
        </p:txBody>
      </p:sp>
      <p:graphicFrame>
        <p:nvGraphicFramePr>
          <p:cNvPr id="168" name=""/>
          <p:cNvGraphicFramePr/>
          <p:nvPr/>
        </p:nvGraphicFramePr>
        <p:xfrm>
          <a:off x="685800" y="2481120"/>
          <a:ext cx="3809880" cy="3267360"/>
        </p:xfrm>
        <a:graphic>
          <a:graphicData uri="http://schemas.openxmlformats.org/presentationml/2006/ole">
            <p:oleObj r:id="rId1" spid="">
              <p:embed/>
              <p:pic>
                <p:nvPicPr>
                  <p:cNvPr id="169"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ogramming</a:t>
            </a:r>
            <a:endParaRPr b="0" i="1" lang="en-US" sz="4400" spc="-1" strike="noStrike">
              <a:solidFill>
                <a:srgbClr val="ffcc66"/>
              </a:solidFill>
              <a:latin typeface="Times New Roman"/>
            </a:endParaRPr>
          </a:p>
        </p:txBody>
      </p:sp>
      <p:sp>
        <p:nvSpPr>
          <p:cNvPr id="17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w, it’s the part where we add things one by one in the project by programming functions in 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art is not easy to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y previous presentation showed basics of the C language. I will not repeat that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Keep your attention on what I add one by one in the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clude, main and nmi functions</a:t>
            </a:r>
            <a:endParaRPr b="0" i="1" lang="en-US" sz="4400" spc="-1" strike="noStrike">
              <a:solidFill>
                <a:srgbClr val="ffcc66"/>
              </a:solidFill>
              <a:latin typeface="Times New Roman"/>
            </a:endParaRPr>
          </a:p>
        </p:txBody>
      </p:sp>
      <p:sp>
        <p:nvSpPr>
          <p:cNvPr id="1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 C file named “main.c” I start with two lines to include libraries in the project.</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coleco.h&gt;</a:t>
            </a:r>
            <a:endParaRPr b="0" lang="en-US" sz="28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getput1.h&gt;</a:t>
            </a:r>
            <a:endParaRPr b="0" lang="en-US" sz="28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end of the “main.c” file, I add the main and nmi functions. I keep them empty for now to keep my attention on the other func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xtern tables and init_graphics</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initialize the graphics, we need two tables in the “icvgm.c” file to setup graphics.</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PATTERN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COLOR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init_graphics()</a:t>
            </a:r>
            <a:endParaRPr b="0" lang="en-US" sz="28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screen_mode_2_text();</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patternrle(PATTERNRLE);</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colorrle(COLORRLE);</a:t>
            </a:r>
            <a:endParaRPr b="0" lang="en-US" sz="2400" spc="-1" strike="noStrike">
              <a:solidFill>
                <a:srgbClr val="ffffcc"/>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_graphics call in main</a:t>
            </a: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main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1); /* infinite loop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esentation part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irst part is building a scena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second part is building the project based on th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rmally, I test a project each time I add a new function or I modify a lin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verify if init_graphics works, I add a put_char function before the infinite loop to show a ball (character#1) on scree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15,11,1); /* at 15,11 put char#1 */</a:t>
            </a:r>
            <a:endParaRPr b="0" lang="en-US" sz="28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warning “constant relational expression” appears for the infinite loop but it’s 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needed)</a:t>
            </a:r>
            <a:endParaRPr b="0" i="1" lang="en-US" sz="4400" spc="-1" strike="noStrike">
              <a:solidFill>
                <a:srgbClr val="ffcc66"/>
              </a:solidFill>
              <a:latin typeface="Times New Roman"/>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in the program as a coordinate : x and 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aldo a movement in X and Y axes (direction) on screen : dx, 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on screen by a character : character numb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structure)</a:t>
            </a:r>
            <a:endParaRPr b="0" i="1" lang="en-US" sz="4400" spc="-1" strike="noStrike">
              <a:solidFill>
                <a:srgbClr val="ffcc66"/>
              </a:solidFill>
              <a:latin typeface="Times New Roman"/>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x; /* delta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y; /* delta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ball_str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all_strct bal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beginning of the game, we need a ball with valid coordinates and direc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starts near to the center of the screen and is moving down to the bottom of the screen : coor. (15, 11), direction (1, 1).</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set or read a value in a structured data type, put a dot between the variable name and the parameter you wa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11; /* coor. y=11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x=1; /* moving to the righ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y=1; /* moving to the bottom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 again</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replace the put_char I added to test the first time by another put_char with balls value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 (ball.x, ball.y,1);</a:t>
            </a:r>
            <a:endParaRPr b="0" lang="en-US" sz="28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The update wasn’t big but I wanted to be sure the modification work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this page, it’s up to you to figure out when I tested my project again.</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n this program is repesented as  coordinates in X and Y axes and a siz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roject the Y coordinate and the size are fix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s represented by 3 different characters : 2 (left), 3 (middle) and 4 (righ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yte size; /* size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paddle_str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addle_strct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paddle values</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y=22; /* coor. y=22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size=4; /* size=4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it a minute</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IZE = 4? But there are 3 characters to represent a paddle on screen?</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ach 8x8 space on screen is a character. Actually, the screen_mode_2_text function fill the screen with SPACEs (character number 32). As you can see, a character can be duplicated on screen. The paddle will be represented by 4 characters but the 2 characters in the middle will be the same : 2, 3, 3, 4.</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1 - Building scenario</a:t>
            </a:r>
            <a:endParaRPr b="0" i="1" lang="en-US" sz="4400" spc="-1" strike="noStrike">
              <a:solidFill>
                <a:srgbClr val="ffcc66"/>
              </a:solidFill>
              <a:latin typeface="Times New Roman"/>
            </a:endParaRPr>
          </a:p>
        </p:txBody>
      </p:sp>
      <p:sp>
        <p:nvSpPr>
          <p:cNvPr id="9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I quickly show what we must think before programming to avoid problems. Only the ball movements are mentioned he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and Erase functions</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the programming experience easier, we need to create new functions. These functions will avoid repeating unfriendly codes in the game engin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show you 4 functions to show and hide a ball and a paddle for this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ball</a:t>
            </a:r>
            <a:endParaRPr b="0" i="1" lang="en-US" sz="44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ball</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3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Remember : Character number 32 is SP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paddle</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4);</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a:t>
            </a:r>
            <a:endParaRPr b="0" i="1" lang="en-US" sz="4400" spc="-1" strike="noStrike">
              <a:solidFill>
                <a:srgbClr val="ffcc66"/>
              </a:solidFill>
              <a:latin typeface="Times New Roman"/>
            </a:endParaRPr>
          </a:p>
        </p:txBody>
      </p:sp>
      <p:sp>
        <p:nvSpPr>
          <p:cNvPr id="2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 (another way)</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rint_at(paddle.x, paddle.y,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inting on screen 4 SPACEs at the paddle coordinates do the same job.</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all movements</a:t>
            </a:r>
            <a:endParaRPr b="0" i="1" lang="en-US" sz="44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cenario, we saw how a ball moves for this projec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on’t panic, but we have to create new functions to keep it simple and friendly.</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First, we need a function to update ball position based on ball valu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n, we have to create new functions to change the ball direction if need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position</a:t>
            </a:r>
            <a:endParaRPr b="0" i="1" lang="en-US" sz="4400" spc="-1" strike="noStrike">
              <a:solidFill>
                <a:srgbClr val="ffcc66"/>
              </a:solidFill>
              <a:latin typeface="Times New Roman"/>
            </a:endParaRPr>
          </a:p>
        </p:txBody>
      </p:sp>
      <p:sp>
        <p:nvSpPr>
          <p:cNvPr id="2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posi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 = ball.x + ball.d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 = ball.y + ball.d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border</a:t>
            </a:r>
            <a:endParaRPr b="0" i="1" lang="en-US" sz="4400" spc="-1" strike="noStrike">
              <a:solidFill>
                <a:srgbClr val="ffcc66"/>
              </a:solidFill>
              <a:latin typeface="Times New Roman"/>
            </a:endParaRPr>
          </a:p>
        </p:txBody>
      </p:sp>
      <p:sp>
        <p:nvSpPr>
          <p:cNvPr id="2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ball.d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paddle.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gt;=paddle.x &amp;&amp; ball.x&lt;paddle.x+paddle.size) ball.dy=-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cenario may be short or very long. It describes the game “situa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are for the “Smash” project, and only describe the possible ball movements in this project. But you can use these pages as an example of what information you must have in a real gam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lse</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TODO: maybe bouncing on paddle extremitie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ee next page for com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rebound effect on paddle is not quite easy to understand. That is why I showed the ball movements in the scenario first.</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ctually, the rebound_on_paddle function change the ball Y direction if the ball hits the paddl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The special case of hiting the paddle extremities is not done yet. /* TODO */</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direct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direc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I check first if there is a rebound effect on the screen border, then on the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paddle position</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paddle_position()</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LEFT) if (paddle.x!=0)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RIGHT) if (paddle.x+paddle.size!=32)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lowdown the game</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delay()</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n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elay(3);</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is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function slowdown the execution and let the NMI interrupt occurs (to play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First game engine version</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have enough functions now to create a simple game eng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game engine, I start by temporary erase the paddle to update its position, then I do the same thing for the ball to update its position and its direction.</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gine loop condition is running until the ball reaches the bottom of the scree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paddle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direc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delay();</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Modifying the main function</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after running the game engine, the program not ends but restarts (crtc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compiling with success the code, you must be able to play this game with an emulator. (run “sample1.rom”)</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a screenshot next p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there are some bugs. Remember that the rebound effect for the ball is not finish yet and the paddle movements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can move only diagonall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in X and Y ax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by adding regulary a movement step for the two axes X and Y. </a:t>
            </a:r>
            <a:endParaRPr b="0" lang="en-US" sz="2800" spc="-1" strike="noStrike">
              <a:solidFill>
                <a:srgbClr val="ffffcc"/>
              </a:solidFill>
              <a:latin typeface="Times New Roman"/>
            </a:endParaRPr>
          </a:p>
        </p:txBody>
      </p:sp>
      <p:graphicFrame>
        <p:nvGraphicFramePr>
          <p:cNvPr id="104" name=""/>
          <p:cNvGraphicFramePr/>
          <p:nvPr/>
        </p:nvGraphicFramePr>
        <p:xfrm>
          <a:off x="685800" y="2209680"/>
          <a:ext cx="3809880" cy="3810240"/>
        </p:xfrm>
        <a:graphic>
          <a:graphicData uri="http://schemas.openxmlformats.org/presentationml/2006/ole">
            <p:oleObj r:id="rId1" spid="">
              <p:embed/>
              <p:pic>
                <p:nvPicPr>
                  <p:cNvPr id="10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1</a:t>
            </a:r>
            <a:endParaRPr b="0" i="1" lang="en-US" sz="4400" spc="-1" strike="noStrike">
              <a:solidFill>
                <a:srgbClr val="ffcc66"/>
              </a:solidFill>
              <a:latin typeface="Times New Roman"/>
            </a:endParaRPr>
          </a:p>
        </p:txBody>
      </p:sp>
      <p:pic>
        <p:nvPicPr>
          <p:cNvPr id="241" name="Image14" descr=""/>
          <p:cNvPicPr/>
          <p:nvPr/>
        </p:nvPicPr>
        <p:blipFill>
          <a:blip r:embed="rId1"/>
          <a:stretch/>
        </p:blipFill>
        <p:spPr>
          <a:xfrm>
            <a:off x="2362320" y="2209680"/>
            <a:ext cx="4660920" cy="422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wo things to make it better</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ball rebound on the paddle the first time. To do that, simply modify the ball X position value in the initialize function.</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all.x= 6; /* was ball.x=15; */</a:t>
            </a:r>
            <a:endParaRPr b="0" lang="en-US" sz="28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paddle move faster than the ball. To do that, simply add “erase”, “update” and “show” paddle functions after the delay in the game loop and finish it with another del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2</a:t>
            </a:r>
            <a:endParaRPr b="0" i="1" lang="en-US" sz="4400" spc="-1" strike="noStrike">
              <a:solidFill>
                <a:srgbClr val="ffcc66"/>
              </a:solidFill>
              <a:latin typeface="Times New Roman"/>
            </a:endParaRPr>
          </a:p>
        </p:txBody>
      </p:sp>
      <p:graphicFrame>
        <p:nvGraphicFramePr>
          <p:cNvPr id="245" name=""/>
          <p:cNvGraphicFramePr/>
          <p:nvPr/>
        </p:nvGraphicFramePr>
        <p:xfrm>
          <a:off x="2362320" y="2209680"/>
          <a:ext cx="4667040" cy="4233960"/>
        </p:xfrm>
        <a:graphic>
          <a:graphicData uri="http://schemas.openxmlformats.org/presentationml/2006/ole">
            <p:oleObj r:id="rId1" spid="">
              <p:embed/>
              <p:pic>
                <p:nvPicPr>
                  <p:cNvPr id="246" name="" descr=""/>
                  <p:cNvPicPr/>
                  <p:nvPr/>
                </p:nvPicPr>
                <p:blipFill>
                  <a:blip r:embed="rId2"/>
                  <a:stretch/>
                </p:blipFill>
                <p:spPr>
                  <a:xfrm>
                    <a:off x="2362320" y="2209680"/>
                    <a:ext cx="466704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sounds</a:t>
            </a:r>
            <a:endParaRPr b="0" i="1" lang="en-US" sz="4400" spc="-1" strike="noStrike">
              <a:solidFill>
                <a:srgbClr val="ffcc66"/>
              </a:solidFill>
              <a:latin typeface="Times New Roman"/>
            </a:endParaRPr>
          </a:p>
        </p:txBody>
      </p:sp>
      <p:sp>
        <p:nvSpPr>
          <p:cNvPr id="2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know that the game is not improved yet. We will do that later if we have ti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following pages, you will see sounds functions I add in this project but I will not tell you where to add them. Try to figure it out by yourself or look at my source co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sounds in the project</a:t>
            </a:r>
            <a:endParaRPr b="0" i="1" lang="en-US" sz="4400" spc="-1" strike="noStrike">
              <a:solidFill>
                <a:srgbClr val="ffcc66"/>
              </a:solidFill>
              <a:latin typeface="Times New Roman"/>
            </a:endParaRPr>
          </a:p>
        </p:txBody>
      </p:sp>
      <p:sp>
        <p:nvSpPr>
          <p:cNvPr id="2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nother file named “sounds.c”, I add two sounds: “pop” and “sho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op” sound should be done when the ball hits something. (tone generator)</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hoot” sound should be done when the ball reaches the bottom of the screen. (noise)</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ounds.c” file, I include the Coleco library and functions to play these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data</a:t>
            </a:r>
            <a:endParaRPr b="0" i="1" lang="en-US" sz="4400" spc="-1" strike="noStrike">
              <a:solidFill>
                <a:srgbClr val="ffcc66"/>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pop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 /* melodic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1,4, /* volume swept +4 each 1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81,0x1d, /* G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90, 4, /* attenuation =0; length =4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function</a:t>
            </a:r>
            <a:endParaRPr b="0" i="1" lang="en-US" sz="4400" spc="-1" strike="noStrike">
              <a:solidFill>
                <a:srgbClr val="ffcc66"/>
              </a:solidFill>
              <a:latin typeface="Times New Roman"/>
            </a:endParaRPr>
          </a:p>
        </p:txBody>
      </p:sp>
      <p:sp>
        <p:nvSpPr>
          <p:cNvPr id="2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pop()</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pop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Sound length = 4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2 “shoot” data</a:t>
            </a:r>
            <a:endParaRPr b="0" i="1" lang="en-US" sz="4400" spc="-1" strike="noStrike">
              <a:solidFill>
                <a:srgbClr val="ffcc66"/>
              </a:solidFill>
              <a:latin typeface="Times New Roman"/>
            </a:endParaRPr>
          </a:p>
        </p:txBody>
      </p:sp>
      <p:sp>
        <p:nvSpPr>
          <p:cNvPr id="2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shoot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1, /* nois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2,1, /* volume swept +1 each 2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e4, /* noise frequenc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f0, 30, /* attenuation =0; length =30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shoot” function</a:t>
            </a:r>
            <a:endParaRPr b="0" i="1" lang="en-US" sz="4400" spc="-1" strike="noStrike">
              <a:solidFill>
                <a:srgbClr val="ffcc66"/>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shoot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Noise length = 30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MI function</a:t>
            </a:r>
            <a:endParaRPr b="0" i="1" lang="en-US" sz="44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mi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nm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s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is called 60 times (or 50 times in Europe) per seco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On screen, a positive step value in Y axe, make a ball moving dow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valid values for the ball movements in X and Y axes are only: -1 and 1.</a:t>
            </a:r>
            <a:endParaRPr b="0" lang="en-US" sz="2800" spc="-1" strike="noStrike">
              <a:solidFill>
                <a:srgbClr val="ffffcc"/>
              </a:solidFill>
              <a:latin typeface="Times New Roman"/>
            </a:endParaRPr>
          </a:p>
        </p:txBody>
      </p:sp>
      <p:graphicFrame>
        <p:nvGraphicFramePr>
          <p:cNvPr id="108" name=""/>
          <p:cNvGraphicFramePr/>
          <p:nvPr/>
        </p:nvGraphicFramePr>
        <p:xfrm>
          <a:off x="685800" y="2209680"/>
          <a:ext cx="3809880" cy="3810240"/>
        </p:xfrm>
        <a:graphic>
          <a:graphicData uri="http://schemas.openxmlformats.org/presentationml/2006/ole">
            <p:oleObj r:id="rId1" spid="">
              <p:embed/>
              <p:pic>
                <p:nvPicPr>
                  <p:cNvPr id="109"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with sound</a:t>
            </a:r>
            <a:endParaRPr b="0" i="1"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 pop(); ball.dy=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ounds are added in the code where it’s needed like this. It’s simple isn’t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game with noise</a:t>
            </a:r>
            <a:endParaRPr b="0" i="1" lang="en-US" sz="4400" spc="-1" strike="noStrike">
              <a:solidFill>
                <a:srgbClr val="ffcc66"/>
              </a:solidFill>
              <a:latin typeface="Times New Roman"/>
            </a:endParaRPr>
          </a:p>
        </p:txBody>
      </p:sp>
      <p:sp>
        <p:nvSpPr>
          <p:cNvPr id="2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ot(); /* noise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use(); /* wait fire button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ug?</a:t>
            </a: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the pause function in main doesn’t work, add a “enable_nmi()” call just before i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you got a “something: type redeclared” when compiling, it’s because a previous function needs this function. You have to move “something” higher in your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3</a:t>
            </a:r>
            <a:endParaRPr b="0" i="1" lang="en-US" sz="4400" spc="-1" strike="noStrike">
              <a:solidFill>
                <a:srgbClr val="ffcc66"/>
              </a:solidFill>
              <a:latin typeface="Times New Roman"/>
            </a:endParaRPr>
          </a:p>
        </p:txBody>
      </p:sp>
      <p:graphicFrame>
        <p:nvGraphicFramePr>
          <p:cNvPr id="268" name=""/>
          <p:cNvGraphicFramePr/>
          <p:nvPr/>
        </p:nvGraphicFramePr>
        <p:xfrm>
          <a:off x="2362320" y="2209680"/>
          <a:ext cx="4667040" cy="4233960"/>
        </p:xfrm>
        <a:graphic>
          <a:graphicData uri="http://schemas.openxmlformats.org/presentationml/2006/ole">
            <p:oleObj r:id="rId1" spid="">
              <p:embed/>
              <p:pic>
                <p:nvPicPr>
                  <p:cNvPr id="269" name="" descr=""/>
                  <p:cNvPicPr/>
                  <p:nvPr/>
                </p:nvPicPr>
                <p:blipFill>
                  <a:blip r:embed="rId2"/>
                  <a:stretch/>
                </p:blipFill>
                <p:spPr>
                  <a:xfrm>
                    <a:off x="2362320" y="2209680"/>
                    <a:ext cx="4667040" cy="4233960"/>
                  </a:xfrm>
                  <a:prstGeom prst="rect">
                    <a:avLst/>
                  </a:prstGeom>
                  <a:ln w="0">
                    <a:noFill/>
                  </a:ln>
                </p:spPr>
              </p:pic>
            </p:oleObj>
          </a:graphicData>
        </a:graphic>
      </p:graphicFrame>
      <p:pic>
        <p:nvPicPr>
          <p:cNvPr id="270" name="" descr=""/>
          <p:cNvPicPr/>
          <p:nvPr/>
        </p:nvPicPr>
        <p:blipFill>
          <a:blip r:embed="rId3"/>
          <a:stretch/>
        </p:blipFill>
        <p:spPr>
          <a:xfrm>
            <a:off x="7391520" y="5867280"/>
            <a:ext cx="536400" cy="53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do a rebound effect when hiting a brick.</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to break the whole brick in one sh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many bricks on screen (top).</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rick is represented on screen as two characters : 6, 7.</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ds when the ball is lost or when there are no more bricks on scre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a ball breaking a brick, I need to use get_char function to check if at the new ball position, before showing the ball, there is a brick character. If it’s the case, then change the ball direction in Y axe, play “pop” and erase the other part of the brick.</a:t>
            </a:r>
            <a:endParaRPr b="0" lang="en-US" sz="3200" spc="-1" strike="noStrike">
              <a:solidFill>
                <a:srgbClr val="ffffcc"/>
              </a:solidFill>
              <a:latin typeface="Times New Roman"/>
            </a:endParaRPr>
          </a:p>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m not giving you the answer for adding bricks in this project. Look at the source code to see my solu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bricks in project</a:t>
            </a:r>
            <a:endParaRPr b="0" i="1" lang="en-US" sz="4400" spc="-1" strike="noStrike">
              <a:solidFill>
                <a:srgbClr val="ffcc66"/>
              </a:solidFill>
              <a:latin typeface="Times New Roman"/>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global variable named number_of_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yte number_of_brick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function to add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add_bricks() { …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nd a “add_bricks” call before the game loo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dd_bricks(); /* add bricks on scree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brick (and break it)</a:t>
            </a: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brick()</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c = get_char(ball.x, ball.y);</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c==6 || c==7)</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pop(); ball.dy=-ball.dy; number_of_bricks--;</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13-(c&lt;&lt;1),ball.y,32);</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econd game engine version</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dd_bricks();</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 &amp;&amp; number_of_bricks!=0)</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brick();</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4</a:t>
            </a:r>
            <a:endParaRPr b="0" i="1" lang="en-US" sz="4400" spc="-1" strike="noStrike">
              <a:solidFill>
                <a:srgbClr val="ffcc66"/>
              </a:solidFill>
              <a:latin typeface="Times New Roman"/>
            </a:endParaRPr>
          </a:p>
        </p:txBody>
      </p:sp>
      <p:pic>
        <p:nvPicPr>
          <p:cNvPr id="282" name="Image16" descr=""/>
          <p:cNvPicPr/>
          <p:nvPr/>
        </p:nvPicPr>
        <p:blipFill>
          <a:blip r:embed="rId1"/>
          <a:stretch/>
        </p:blipFill>
        <p:spPr>
          <a:xfrm>
            <a:off x="2362320" y="2209680"/>
            <a:ext cx="4667040" cy="42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the screen border, a ball changes its direction (rebou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ample: If a ball reaches the screen border at the top, only the movement step in Y axe changes.</a:t>
            </a:r>
            <a:endParaRPr b="0" lang="en-US" sz="2800" spc="-1" strike="noStrike">
              <a:solidFill>
                <a:srgbClr val="ffffcc"/>
              </a:solidFill>
              <a:latin typeface="Times New Roman"/>
            </a:endParaRPr>
          </a:p>
        </p:txBody>
      </p:sp>
      <p:graphicFrame>
        <p:nvGraphicFramePr>
          <p:cNvPr id="112" name=""/>
          <p:cNvGraphicFramePr/>
          <p:nvPr/>
        </p:nvGraphicFramePr>
        <p:xfrm>
          <a:off x="685800" y="2209680"/>
          <a:ext cx="3809880" cy="3810240"/>
        </p:xfrm>
        <a:graphic>
          <a:graphicData uri="http://schemas.openxmlformats.org/presentationml/2006/ole">
            <p:oleObj r:id="rId1" spid="">
              <p:embed/>
              <p:pic>
                <p:nvPicPr>
                  <p:cNvPr id="113"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ever ending story</a:t>
            </a:r>
            <a:endParaRPr b="0" i="1" lang="en-US" sz="4400" spc="-1" strike="noStrike">
              <a:solidFill>
                <a:srgbClr val="ffcc66"/>
              </a:solidFill>
              <a:latin typeface="Times New Roman"/>
            </a:endParaRPr>
          </a:p>
        </p:txBody>
      </p:sp>
      <p:sp>
        <p:nvSpPr>
          <p:cNvPr id="2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till have a TODO section in rebound_on_paddle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to improve the update_paddle_position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more sounds and a score system.</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skill levels like different game speed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a menu and a title screen to make this project more profess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MASH is finally done!</a:t>
            </a: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ll the things I needed to do are done in the final version. Just look at the source code and try to find out what I did to make this game even bett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using sprites is a possibility. It could be a good test for you to think about the consequences of using a sprite (or two) for the ball rather than a charac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of this presentation</a:t>
            </a:r>
            <a:endParaRPr b="0" i="1" lang="en-US" sz="4400" spc="-1" strike="noStrike">
              <a:solidFill>
                <a:srgbClr val="ffcc66"/>
              </a:solidFill>
              <a:latin typeface="Times New Roman"/>
            </a:endParaRPr>
          </a:p>
        </p:txBody>
      </p:sp>
      <p:sp>
        <p:nvSpPr>
          <p:cNvPr id="2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ry it! Start a new projec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Enjoy programming new games for this incredible game syste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a paddle at the bottom of the screen, a ball changes its direction only in the Y axe to not let the ball continue its movement to the bottom of the screen.</a:t>
            </a:r>
            <a:endParaRPr b="0" lang="en-US" sz="2800" spc="-1" strike="noStrike">
              <a:solidFill>
                <a:srgbClr val="ffffcc"/>
              </a:solidFill>
              <a:latin typeface="Times New Roman"/>
            </a:endParaRPr>
          </a:p>
        </p:txBody>
      </p:sp>
      <p:graphicFrame>
        <p:nvGraphicFramePr>
          <p:cNvPr id="116" name=""/>
          <p:cNvGraphicFramePr/>
          <p:nvPr/>
        </p:nvGraphicFramePr>
        <p:xfrm>
          <a:off x="685800" y="2209680"/>
          <a:ext cx="3809880" cy="3810240"/>
        </p:xfrm>
        <a:graphic>
          <a:graphicData uri="http://schemas.openxmlformats.org/presentationml/2006/ole">
            <p:oleObj r:id="rId1" spid="">
              <p:embed/>
              <p:pic>
                <p:nvPicPr>
                  <p:cNvPr id="117"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6:22:57Z</dcterms:created>
  <dc:creator>Daniel Bienvenu</dc:creator>
  <dc:description/>
  <dc:language>en-US</dc:language>
  <cp:lastModifiedBy>Preferred Customer</cp:lastModifiedBy>
  <dcterms:modified xsi:type="dcterms:W3CDTF">2004-09-25T06:32:45Z</dcterms:modified>
  <cp:revision>108</cp:revision>
  <dc:subject/>
  <dc:title>Coleco Programming in C par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e">
    <vt:lpwstr>anglais</vt:lpwstr>
  </property>
</Properties>
</file>